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abi" initials="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10-06T22:47:24.070000000" idx="1">
    <p:pos x="2636" y="396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F89-DAEE-4934-9C8A-E908C4B3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844-A7C9-495D-8C58-B5E81B29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488-C469-4C21-B83C-343392B4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E18-8002-4E72-AE15-337C1AAB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682-EFC4-4DCD-92C2-37A4CC6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AC6-419F-42D5-A4E4-78B055E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86C-9783-4762-9F3B-5A1400D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241-BDD4-4181-AD47-3B0C1A47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B35-5464-4AC5-A087-0CA0427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CE4-6BF0-418D-8D6A-7E4731C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CAC4-346B-4973-91D5-B38CDC4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7C0-A1A0-490C-8C56-87E6A22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9497-1EFB-401E-A08F-E34A9F0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88AA-3C07-4931-A918-CA8FAAA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3CA-1808-4A95-AFDD-47D52934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A1DB-B2CD-4AC6-AC5E-43EBA821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C162-E289-4026-809F-8FEDE4D3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887-67DB-4D04-84D4-71FFB95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4EE-5BC1-4E4C-8ED8-44A15D5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8F-DFFF-493F-8BFE-C0CDE88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EAA-6623-4211-8219-5DA94CF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40B-545E-4752-A52C-DDFA1DB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89F-9147-430D-88DA-ED7685E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929-E328-4753-BFB6-FDE8119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EE4-589C-4227-896B-2C1B9E24AD51}" type="slidenum">
              <a:rPr b="0" lang="he-I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A5B-3291-408C-AEAA-8B177913FC96}" type="slidenum">
              <a:rPr b="0" lang="he-I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<Relationship Id="rId5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2388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700" spc="-1" strike="noStrike">
                <a:solidFill>
                  <a:srgbClr val="000000"/>
                </a:solidFill>
                <a:latin typeface="Verdana"/>
              </a:rPr>
              <a:t>بيولوجيا الانسان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743200" y="2438280"/>
            <a:ext cx="3962520" cy="318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5407200"/>
            <a:ext cx="903240" cy="87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62320" y="5486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Bold Italic Art"/>
              </a:rPr>
              <a:t>معلم الموضوع :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  <a:cs typeface="Bold Italic Art"/>
              </a:rPr>
              <a:t>يوسف الع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989000"/>
            <a:ext cx="2881440" cy="22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ffff66"/>
                </a:solidFill>
                <a:latin typeface="Verdana"/>
              </a:rPr>
              <a:t>جهاز الهض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" dur="2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7" dur="2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8" dur="2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mp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845080" cy="440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59640" y="620640"/>
            <a:ext cx="187164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حركة الدود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155736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هي عبارة عن عضو عضلي يشبه الكيس يستوعب ما يقارب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ليت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معدة موجودة في القسم الامامي والعلوي في الجهة اليسارية من تجويف البط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4005360"/>
            <a:ext cx="741672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ين المريء والمعدة توجد فتحة الفؤاد وبين المعدة والامعاء الدقيقة توج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تحة البو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ظيفة هاتين الفتحتين تنظيم عبور الطعام من والى المعدة .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404640"/>
            <a:ext cx="1727280" cy="648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. المع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2781360"/>
            <a:ext cx="1728720" cy="792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 مبنى المع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557360"/>
            <a:ext cx="8136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Verdana"/>
              </a:rPr>
              <a:t>في البلعوم تتواجد خلايا حسية وعند عملية البلع تصل معلومات الى مرك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Verdana"/>
              </a:rPr>
              <a:t>المراقبة في الدماغ وهذا  بدوره ينقل اوامر الى فتحة الفؤاد مما يسبب فتح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Verdana"/>
              </a:rPr>
              <a:t>تتركب من ثلاث طبقات من العضلات تساعد على الانقباض والانبس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حتوي جدار المعدة على غدد تقوم بافراز حامض الكلورديك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هذه الافرازات تدعى بعصارة المع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جدار المعدة الداخلي يحتوي على التفافات واعوجاجات كثيرة مما يزيد من مساحة     سطح التلامس ما بين عصارة المعدة والطعام المطح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4319640" cy="3311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14842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هي عبارة عن سائل شفاف يميل الى الاصفرار وذي درجة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=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معظم العصارة عبارة عن ماء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7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والباقي عبارة عن بروتينات واملا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غير عض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476280"/>
            <a:ext cx="2016000" cy="649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عصارة المع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63640" y="404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8900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1700280"/>
            <a:ext cx="69832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تناول الطعام وتواجده في الفم يثير الطعام الخلايا العصبية الحسية الموجودة في اللسان ومنها تصل المعلومات الى الدماغ والتي بدورها تحفز الغدد الموجودة في بطانة المعدة لافراز العص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وايضا يتم تنظيم العصارة بواسطة تحليل البروتينا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تحليل البروتين    يحفز         افراز جسترين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                                بطانة المع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                                      يحف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               يحفز          افراز عصارة الهض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933720"/>
            <a:ext cx="1150920" cy="144720"/>
          </a:xfrm>
          <a:prstGeom prst="leftArrow">
            <a:avLst>
              <a:gd name="adj1" fmla="val 50000"/>
              <a:gd name="adj2" fmla="val 1988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508640"/>
            <a:ext cx="360360" cy="1225440"/>
          </a:xfrm>
          <a:prstGeom prst="downArrow">
            <a:avLst>
              <a:gd name="adj1" fmla="val 50000"/>
              <a:gd name="adj2" fmla="val 8501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609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609300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956720" y="3860280"/>
            <a:ext cx="0" cy="223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620640"/>
            <a:ext cx="3383280" cy="647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 تنظيم افراز عصارة المع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413000"/>
            <a:ext cx="857088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كمال عملية تفكيك الطعام الى قطع صغيرة جد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راقبة عملية انتقال الغذاء الى الامعاء الدقيقة فمثلا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الغذاء الذي يحتوي على دهنيات يمكث في المعدة مدة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سا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الغذاء الذي يحتوي على بروتينات يمكث في المعدة مدة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سا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الغذاء الذي يحتوي على سكريات يمكث في المعدة مدة ساعت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الماء يمكث في المعدة مدة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دقيقة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القضاء على الاجسام الغريبة التي تدخل مع الغذاء , والتي لا تستطيع العيش في درج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=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تنشيط الانزيمات الغير فعالة:-   انزيم ببسينوجين الغير فعال  يتحول الى انزيم ببسين فعال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انزيم الببسين يحلل البروتينات الى حوامض امين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انزيم الليباز في المعدة يساهم في تحويل الدهنيات الى مستحل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620640"/>
            <a:ext cx="2014560" cy="6494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وظائف المعدة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133720"/>
            <a:ext cx="813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وم الغدد الموجودة في جدار المعدة بافراز سائل يحافظ على الجدار م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الحامض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متوسط عمر الخلايا في المعدة قصير جدا. كل دقيقة يموت نصف مليون خل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يتم انتاج خلايا جديدة بشكل دائ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692280"/>
            <a:ext cx="5399280" cy="649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كيف يحافظ جدار المعدة على نفسه من الحامض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70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نتقل العصارة التي تحتوي على الطعام المهضوم الى الاثنا عشر وهو اول اقسام الامعاء الدقيقة عبر فتحة البو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852640"/>
            <a:ext cx="8099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يبلغ طول الامعاء الدقيقة تقريبا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متر وقطرها ما بين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m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هنالك ثلاث عصارات تصب في الاثنا عشر و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عصارة الامع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عصارة البنكري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العصارة الصفر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620640"/>
            <a:ext cx="1871640" cy="647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امعاء الدقيق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53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557360"/>
            <a:ext cx="84232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بنكرياس هو عبارة عن غدة تقع اسفل المعدة وتفرز يوميا ما يقارب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لت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تحتوي عصارة البنكرياس على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نزيمات محل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يونات بيوكربونات الصوديوم القاعدية لكي تعادل درجة الحامض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765000"/>
            <a:ext cx="230364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عصارة البنكرياس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4653000"/>
            <a:ext cx="5759280" cy="934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للبنكرياس وظيفة اخرى في تنظيم نسبة السكر في ال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 يفرز هرموني الانسولين والجلوكاج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27280" y="476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جهاز الهض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لماذا نحتاج الى غذاء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7813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يتركب الغذاء من المركبات الاساسية:- بروتينات , سكريات , دهنيات , ماء , املاح , فيتامينات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0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لهذه المركبات وظيفت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508640"/>
            <a:ext cx="7775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 يشترك في بناء مركبات مختلفة داخل الخ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 تتأكسد بعض المركبات ونتيجة التأكسد يتم انتاج طاقة تستغل للعمليا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  سكر +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2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2 +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6237360"/>
            <a:ext cx="2089080" cy="360360"/>
          </a:xfrm>
          <a:prstGeom prst="leftArrow">
            <a:avLst>
              <a:gd name="adj1" fmla="val 50000"/>
              <a:gd name="adj2" fmla="val 1449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87280" y="4076640"/>
            <a:ext cx="734544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وظيفة العصارة الصفرا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تساعد في تحليل الدهنيات وايضا في تحويل وسط ال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H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من حامض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الى متعاد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لا تحتوي العصارة الصفراء على انزيمات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692280"/>
            <a:ext cx="2881080" cy="649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عصارة الصفراء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177336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هي عبارة عن سائل اصفر يتم انتاجه في الكبد ويخزن في كيس المر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 تستطيع المرارة خزن ما يقارب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0cm3</a:t>
            </a: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. تنتقل العصارة الصفراء ا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الاثنا عشر من خلال قناة 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840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1484280"/>
            <a:ext cx="842472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اكبر عضو في احشاء الانسان من حيث الوزن ويتراوح وزنه ما بين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5kg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ويقع في الجانب الايمن من جسم الانسان اسفل القفص الصدري وتحت الحجا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الحاجز وفوق المعدة تقريب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cc"/>
                </a:solidFill>
                <a:uFillTx/>
                <a:latin typeface="Arial"/>
              </a:rPr>
              <a:t> يعتبر الكبد عضو هام جدا وله عدة وظائف من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تنظيم نسبة السكر في ال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انتاج العصارة الصفر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يتم فيه انتاج بعض بروتينات ال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تحويل المواد السامة مثل الامونيا الناتجة من تحليل بروتينات الى مواد غي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سامة مثل اليور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تحطيم السموم الداخلة الى الج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333360"/>
            <a:ext cx="1079640" cy="79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كبد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4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616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1484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89000"/>
            <a:ext cx="7775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الملتاز 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لل سكر الملتوز ال جلوكو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السكراز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لل السكروز الى جلوكوز وفروكتو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اللكتاز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لل سكر اللكتوز الى جلوكوز وجلكتو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الليباز: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لل المستحلب الدهني الى حوامض دهنية وجليتسر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692280"/>
            <a:ext cx="4103640" cy="649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انزيمات المتواجدة في الاثنا عش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404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2602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628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ظم المواد التي يتم تحليلها في الامعاء الدقيقة تنتقل وتمتص الى الجهاز الدموي عن طريق الخملات الموجود في جدار الامعاء الدقيق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04640"/>
            <a:ext cx="4680000" cy="792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متصاص المواد من الامعاء الدقيقة الى الد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744720" cy="36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364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700280"/>
            <a:ext cx="7993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يصب في القناة الهضمية ما يقارب 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 لترات يومي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لتران من الغذاء اما الباقي فيفرز من العصارت المختلف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لكن لا يخرج مع البراز الا حوالي 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 ملل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معظم المواد يعاد امتصاصها الى الدم والجهاز الليمفاو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005360"/>
            <a:ext cx="8208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امتصاص السكريات الاحادية والبروتينات الى الدم من الاثنا عشر يتطلب نقل نش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 يتم امتصاص 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% من الماء الموجود في القناة الهضمية 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 يحدث معظم امتصاص الماء  في الامعاء الدقيقة وقسم قليل في الامعاء الغليظ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Verdana"/>
              </a:rPr>
              <a:t>يتم امتصاص الماء نتيجة امتصاص الايونات بشكل فعال الامر الذي يؤدي الى زيادة الضغط الاسموزي وبالتالي الى امتصاص الماء لتخفيف التركي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189000"/>
            <a:ext cx="1944720" cy="79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تكملة الامتص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6000" y="1844640"/>
            <a:ext cx="7416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متصاص الكالسيوم يتم بشكل فعال. فيتامين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يزيد من امتصاص الكالسيوم من الامعاء الى ال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يونات الحديد يتم امتصاصها تبعا لحاجة الجسم فعند حدوث النزيف يتم امتصاص حديد بكميات اكب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فائض الحديد يسبب اضرارا للكب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فيتامين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يزيد من امتصاص الحديد الى ال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تحتوي الامعاء على بروتين يدعى فريتين والذي يمنع انتقال فائض الحديد الى الدم بواسطة ربطه للحديد ومنعه من الخروج من الامعاء وانتقاله مع البر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تم امتصاص الفيتامينات بواسطة عملية انتشار وفقا لمنحدر التركي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189000"/>
            <a:ext cx="1944720" cy="79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تكملة الامتص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692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وظيفة جهاز الهض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cc66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تحليل وتفكيك الغذاء الى المركبات الاساسية التي يتم امتصاصها الى الجسم بواسطة ال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637000"/>
            <a:ext cx="7274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جهاز الهضم هو عبارة عن انبوب طويل يبدأ بفتحة الفم وينتهي بفتح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شر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ذلك يسمى جهاز خارجي لانه يوجد في اتصال مباشر مع البيئ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خارج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عد انتقال المواد الى الجهاز الدموي تعتبر جزء من البيئة الداخ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1628640"/>
            <a:ext cx="83534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نتقل المواد المتبقية بعد الهضم والامتصاص من الامعاء الدقيقة الى الامعاء الغليظة , وهي اسمك واوسع من الامعاء الدقي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شمل محتويات الامعاء الغليظة بقايا الغذاء الغير مهضوم والفضلات ويج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خلص من هذه البقايا وطردها خارج الجسم عن طريق البر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 وظيفة الامعاء الغليظ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 امتصاص كمية كبيرة من الماء والامل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 تحتوي على بكتيريا تعيش بصورة تكافلية مع جسم الانسان وتنت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فيتامين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12 , 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692280"/>
            <a:ext cx="1942920" cy="649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امعاء الغليظة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411280" y="0"/>
            <a:ext cx="4537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492280"/>
            <a:ext cx="845964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     يحتوي الفم على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قسا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 أ. الاسنان: يحتوي الفم على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32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سن. هنالك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انواع من الاسنا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* القواطع :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وعددها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--- وظيفتها تقطيع المواد الغذائ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* الانياب :-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وعددها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--- وظيفتها تقطيع الغذاء الذي يصعب تقطيع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* اضراس :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وعددها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--- وظيفتها طحن الغذاء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549360"/>
            <a:ext cx="2448000" cy="431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قسام الجهاز الهضم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1557360"/>
            <a:ext cx="792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ف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554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484280"/>
            <a:ext cx="8604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لسان وظيفت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تحريك الطعام ليمتزج باللعاب ويسهل هضم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يحتوي على خلايا عصبية حسية خاصة لتحليل طعم الغذاء. ( حلو , مر 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        حامض.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260280"/>
            <a:ext cx="172692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ب. اللس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55736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          هنالك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انواع من الغدد اللعابية في الفم. اللعاب يحتوي على: </a:t>
            </a:r>
            <a:r>
              <a:rPr b="1" lang="ar-SA" sz="2200" spc="-1" strike="noStrike">
                <a:solidFill>
                  <a:srgbClr val="996600"/>
                </a:solidFill>
                <a:latin typeface="Arial"/>
              </a:rPr>
              <a:t>ماء وانزي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14130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565360"/>
            <a:ext cx="7921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0033cc"/>
                </a:solidFill>
                <a:uFillTx/>
                <a:latin typeface="Arial"/>
              </a:rPr>
              <a:t>للعاب عدة وظائ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حتوي على انزيم اميلاز الذي يحلل النشا الى سكريات اح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نشا     انزيم اميلاز        سكريات احاد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هذا الانزيم يعمل في درج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=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ويبقى نشط في درجات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&lt;1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95640" y="4076640"/>
            <a:ext cx="11509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941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  يذيب بعض المواد مما يسهل طحن الطعام وعبور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57340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يحتوي على انزيمات تساعد في القضاء على الكائنات الحية الدقي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260280"/>
            <a:ext cx="2952720" cy="981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ج. اللع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162864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للبلعوم وظيفتين وهما :تمرير الغذاء والهو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يتقدم الغذاء في انبوب الجهاز الهضمي بفضل الانقباضات الدود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21000"/>
            <a:ext cx="842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عبارة عن انبوب طوله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cm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وعرضه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cm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. يرتبط مع المعدة في تجوي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البط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يحتوي المريء على عضلات تنقبض وترتخي ممل تسهل عملية مرور الغذاء نح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الاسفل . هذه الحركة تسمى بالحركة الد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تنبسط العضلات فينزل الغذاء ومن ثم تنقبض مما يمنع رجوعها الى الخل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404640"/>
            <a:ext cx="1655640" cy="1008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. البلع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997360"/>
            <a:ext cx="1584000" cy="1079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. المري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03:01:28Z</dcterms:created>
  <dc:creator>yousef</dc:creator>
  <dc:description/>
  <dc:language>en-US</dc:language>
  <cp:lastModifiedBy>LIRON-2</cp:lastModifiedBy>
  <dcterms:modified xsi:type="dcterms:W3CDTF">2005-12-12T18:18:37Z</dcterms:modified>
  <cp:revision>14</cp:revision>
  <dc:subject/>
  <dc:title>Slide 1</dc:title>
</cp:coreProperties>
</file>